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A84-3FDB-4C7A-844A-9B48C0AB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60-F4A4-43A8-BBC8-6C86AC6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1EF-E180-45C3-B5E3-6B61A74A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451-D8ED-4707-8B3F-9A139A1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AE17-C3C6-4230-ADA3-0B00554C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EC39-E411-4CA1-8376-C06FDC1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67D1-CE28-4B1F-8AEF-CE6F40A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893-1D10-4A74-8AE2-04413F4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C511-8A87-4C32-8B7D-0A9923D4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73ED-8067-4E2C-BF81-3918B6A2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87C-27D5-45E4-A0DC-3F9D8BD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101-4023-4BB8-ABDB-A5A7834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2D34-7ECE-4F58-B242-A7AA473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1C0B-FBDF-42DD-976E-B1DC073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4F55-45B5-45AE-AE2E-30D7020F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9632-7D45-4002-9AAB-3B09FA1C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212B-C473-4643-BD4D-F45B0CA5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565-AA7D-4394-BCDE-1E0C9E9A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787-B0DE-4542-8314-A12D0D3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945-A2FB-4E3B-A7C1-3DFC4D38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DB1-AEF8-4BEA-9D03-90F48882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B25-26F5-4F0A-BCDA-6936A17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3B7-251E-4710-A428-68F364D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555-7DF2-4274-9403-E3D6295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FFFE-8024-4F18-B0EF-BE737EF7AB27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6B7-28DA-42B2-8043-8C8F2699AFF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Tahoma"/>
              </a:rPr>
              <a:t>The History of</a:t>
            </a:r>
            <a:br>
              <a:rPr sz="6600"/>
            </a:br>
            <a:r>
              <a:rPr b="1" lang="en-US" sz="6600" spc="-1" strike="noStrike">
                <a:solidFill>
                  <a:srgbClr val="660066"/>
                </a:solidFill>
                <a:latin typeface="Tahoma"/>
              </a:rPr>
              <a:t> Rock and Pop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9640" y="378936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18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21382200">
            <a:off x="2255760" y="1196640"/>
            <a:ext cx="6296040" cy="37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The 70-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  <p:transition spd="slow" advTm="13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7530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9567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2035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828800" y="500040"/>
            <a:ext cx="7162920" cy="6141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3049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E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8953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5143320" cy="6400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 rot="5400000">
            <a:off x="4071240" y="2786040"/>
            <a:ext cx="609588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David Bowi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549768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ORP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686800" cy="545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718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83000" y="685800"/>
            <a:ext cx="5342040" cy="594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228600" y="380880"/>
            <a:ext cx="5715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0-th… BEACH BOY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187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7709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5753160" cy="6477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 rot="5400000">
            <a:off x="-1447560" y="2209680"/>
            <a:ext cx="563868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BONEY 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11676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165240"/>
            <a:ext cx="7239240" cy="5121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2362320" y="5486400"/>
            <a:ext cx="4695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DONN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75072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666880" y="510552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ichael Jack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4023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4360" y="836640"/>
            <a:ext cx="7991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90-th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49640" cy="350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06920" cy="312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 flipH="1">
            <a:off x="5714640" y="0"/>
            <a:ext cx="3429000" cy="244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00800" y="1752480"/>
            <a:ext cx="2496960" cy="5105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3154320"/>
            <a:ext cx="6172200" cy="3703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459640" y="623736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1" nodeType="afterEffect" fill="hold" presetClass="entr" presetID="2" presetSubtype="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5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6718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7696080" cy="548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85800" y="2286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I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4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342187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476360" y="2421000"/>
            <a:ext cx="5759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2000-th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3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895480" y="0"/>
            <a:ext cx="346896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5400000">
            <a:off x="4952880" y="2895480"/>
            <a:ext cx="518148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SPEA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 rot="5400000">
            <a:off x="-1371960" y="2666880"/>
            <a:ext cx="510552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BRITNEY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7126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2760" y="166680"/>
            <a:ext cx="8321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Yesterd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ll my troubles seemed so far away,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w it looks as though they’re here to st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h, I believe in yesterda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uddenl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’m not half the man I used to be,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ere’s a shadow hanging over me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h, yesterday came suddenl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y she had to go I don’t know, she wouldn’t s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 said something wrong, now I long for yesterda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Yesterd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ve was such an easy game to pl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w I need a place to hide aw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h, I believe in yesterda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y she had to go I don’t know, she wouldn’t s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 said something wrong, now I long for yesterda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Yesterday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ve was such an easy game to play      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w I need a place to hide awa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Oh, I believe in yesterday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164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2748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50-th…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90544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-1790640" y="285768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Chu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5752800" y="300996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Ber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885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0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8896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 rot="5400000">
            <a:off x="-2329200" y="2938320"/>
            <a:ext cx="609588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Littl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5400000">
            <a:off x="5442840" y="2709720"/>
            <a:ext cx="579132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Rich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317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4340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162920" cy="5361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90720" y="15228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lvis Presle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6111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-38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60-th… Rolling St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153280" cy="584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3027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830160"/>
            <a:ext cx="9144000" cy="6027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066680" y="152280"/>
            <a:ext cx="7239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Beatl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2748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5320" y="0"/>
            <a:ext cx="55692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5400000">
            <a:off x="-1295280" y="26668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Dia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 rot="5400000">
            <a:off x="5866920" y="26668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Ro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42347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45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Woodstoc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6782040" cy="5932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67183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5:45:37Z</dcterms:created>
  <dc:creator>Ученик</dc:creator>
  <dc:description/>
  <dc:language>en-US</dc:language>
  <cp:lastModifiedBy>Виталий</cp:lastModifiedBy>
  <dcterms:modified xsi:type="dcterms:W3CDTF">2011-01-21T20:22:32Z</dcterms:modified>
  <cp:revision>33</cp:revision>
  <dc:subject/>
  <dc:title>The History of Rock and Pop</dc:title>
</cp:coreProperties>
</file>